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E27F-92D5-4D47-87D0-0640AFC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FD05-33B8-48FB-A7CE-1065878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C730-4F8C-4B4C-AEBA-987B89F3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DD57-36AC-468E-98E4-94C2277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975-D546-438D-AD7B-3356E6FE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516-4BAA-4B0B-8394-FFB01BA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6464-E245-4F10-B656-67F0958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0F8-0D7B-4A42-9705-C451E80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855-978A-49B5-946C-93C63BE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4788-5BAA-4F45-8521-2ACABF1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962A-F09C-4E6C-87AD-F63F5BE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FF67-7478-419F-AA63-9A54682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7F0-46FF-4695-93FD-C01753B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266-DDC0-4BBB-8D4B-8DAB2FE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A3C3-2798-4CFD-ADAB-A0264AD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8AEB-1299-4859-A39B-24F32A94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4FE-1C53-4300-BCB6-06F4D59C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7C39-C587-4A30-9609-3F3B40CA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DAA4-66E7-4331-917B-1E565E8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1B96-B5ED-487E-9F75-06D2A6A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0BA0-5B4E-42D4-97E6-416295CA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1EF1-6D44-40A8-ACCB-E5502AA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8C13-03B4-43E7-918D-6EF6E7F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7C59-7ED2-403E-BFE0-0E273D2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6C0C-FD16-4260-9EBE-441B88C8024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29AB-964C-45F2-AFD6-16BCF1B3AE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5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24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га в минути тежки м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га разяжда ми сърце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газ молитва, вдъхнов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правям ази към Небет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5356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. И виждам таз молитва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има сила благодатн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живи й слова тоз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зирам прелест необят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24092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пада от душа товар, съмнението е далеко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реизпълнен с Божи да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ен на душата става леко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1:29Z</dcterms:modified>
  <cp:revision>86</cp:revision>
  <dc:subject/>
  <dc:title>Slide 1</dc:title>
</cp:coreProperties>
</file>